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E0A-ECBC-45FF-A5A8-43F59AA6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CD9-26CE-4FED-9503-1BAB982D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662-3721-40A5-980C-824FEF22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E12-5A79-446E-BAC4-31F7AAA2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78A-D340-4169-8FC6-27E6F60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49A-FABA-48EF-95D3-CCCCE5F0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B73-585E-4AD7-9CB2-D155E22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59D-A8A6-4C54-8B31-0A6D7C19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747-3460-4706-9A9F-965B0A7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437-C07C-47D3-BB7F-58E3744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218-4310-4E17-AF7C-E80D32B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D0F-5188-4F5A-BC09-0B5090B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7F12-D955-4CB1-AC7F-5775EB59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27432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tring Tension Can Be a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entripetal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For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27" descr="tstr"/>
          <p:cNvPicPr/>
          <p:nvPr/>
        </p:nvPicPr>
        <p:blipFill>
          <a:blip r:embed="rId1"/>
          <a:stretch/>
        </p:blipFill>
        <p:spPr>
          <a:xfrm>
            <a:off x="2743200" y="152280"/>
            <a:ext cx="6400800" cy="596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8"/>
          <p:cNvSpPr/>
          <p:nvPr/>
        </p:nvSpPr>
        <p:spPr>
          <a:xfrm>
            <a:off x="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ubular"/>
              </a:rPr>
              <a:t>If the string is swung too fast………</a:t>
            </a:r>
            <a:endParaRPr b="0" lang="en-US" sz="28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4" name="Text Box 1029"/>
          <p:cNvSpPr/>
          <p:nvPr/>
        </p:nvSpPr>
        <p:spPr>
          <a:xfrm>
            <a:off x="533520" y="563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533520" y="548496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ubular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ubular"/>
              </a:rPr>
              <a:t>.T will increase or r will increase until…</a:t>
            </a:r>
            <a:endParaRPr b="0" lang="en-US" sz="28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46" name="Text Box 1031"/>
          <p:cNvSpPr/>
          <p:nvPr/>
        </p:nvSpPr>
        <p:spPr>
          <a:xfrm>
            <a:off x="3886200" y="6095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ubular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ubular"/>
              </a:rPr>
              <a:t>the string breaks!</a:t>
            </a:r>
            <a:endParaRPr b="0" lang="en-US" sz="36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irling Swing R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W215 _P_05"/>
          <p:cNvPicPr/>
          <p:nvPr/>
        </p:nvPicPr>
        <p:blipFill>
          <a:blip r:embed="rId1"/>
          <a:stretch/>
        </p:blipFill>
        <p:spPr>
          <a:xfrm>
            <a:off x="685800" y="1828800"/>
            <a:ext cx="822960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720" y="6854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r Tu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W201_05"/>
          <p:cNvPicPr/>
          <p:nvPr/>
        </p:nvPicPr>
        <p:blipFill>
          <a:blip r:embed="rId1"/>
          <a:stretch/>
        </p:blipFill>
        <p:spPr>
          <a:xfrm>
            <a:off x="135000" y="0"/>
            <a:ext cx="6759360" cy="8381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562720" y="3124080"/>
            <a:ext cx="15238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nke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051" descr="W203_05"/>
          <p:cNvPicPr/>
          <p:nvPr/>
        </p:nvPicPr>
        <p:blipFill>
          <a:blip r:embed="rId1"/>
          <a:stretch/>
        </p:blipFill>
        <p:spPr>
          <a:xfrm>
            <a:off x="2971800" y="-304920"/>
            <a:ext cx="5889600" cy="1019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3809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ked Tr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05_05a"/>
          <p:cNvPicPr/>
          <p:nvPr/>
        </p:nvPicPr>
        <p:blipFill>
          <a:blip r:embed="rId1"/>
          <a:stretch/>
        </p:blipFill>
        <p:spPr>
          <a:xfrm>
            <a:off x="0" y="1905120"/>
            <a:ext cx="4724280" cy="440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05_05b"/>
          <p:cNvPicPr/>
          <p:nvPr/>
        </p:nvPicPr>
        <p:blipFill>
          <a:blip r:embed="rId2"/>
          <a:stretch/>
        </p:blipFill>
        <p:spPr>
          <a:xfrm>
            <a:off x="4389480" y="0"/>
            <a:ext cx="4754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olds Plan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027" descr="W202_05"/>
          <p:cNvPicPr/>
          <p:nvPr/>
        </p:nvPicPr>
        <p:blipFill>
          <a:blip r:embed="rId1"/>
          <a:stretch/>
        </p:blipFill>
        <p:spPr>
          <a:xfrm>
            <a:off x="2895480" y="-1604880"/>
            <a:ext cx="11734920" cy="8518320"/>
          </a:xfrm>
          <a:prstGeom prst="rect">
            <a:avLst/>
          </a:prstGeom>
          <a:ln w="0">
            <a:noFill/>
          </a:ln>
        </p:spPr>
      </p:pic>
      <p:sp>
        <p:nvSpPr>
          <p:cNvPr id="85" name="Oval 1028"/>
          <p:cNvSpPr/>
          <p:nvPr/>
        </p:nvSpPr>
        <p:spPr>
          <a:xfrm>
            <a:off x="5257800" y="3276720"/>
            <a:ext cx="19810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86" name="Rectangle 1029"/>
          <p:cNvSpPr/>
          <p:nvPr/>
        </p:nvSpPr>
        <p:spPr>
          <a:xfrm>
            <a:off x="8077320" y="-533520"/>
            <a:ext cx="556236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as Centripetal Compo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W202_05"/>
          <p:cNvPicPr/>
          <p:nvPr/>
        </p:nvPicPr>
        <p:blipFill>
          <a:blip r:embed="rId1"/>
          <a:stretch/>
        </p:blipFill>
        <p:spPr>
          <a:xfrm>
            <a:off x="-2666880" y="1371600"/>
            <a:ext cx="10362960" cy="7523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066680" y="51814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2666880" y="3581280"/>
            <a:ext cx="396216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irling 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05_01"/>
          <p:cNvPicPr/>
          <p:nvPr/>
        </p:nvPicPr>
        <p:blipFill>
          <a:blip r:embed="rId1"/>
          <a:stretch/>
        </p:blipFill>
        <p:spPr>
          <a:xfrm>
            <a:off x="2209680" y="692280"/>
            <a:ext cx="6782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1640" y="151920"/>
            <a:ext cx="3505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8585"/>
                </a:solidFill>
                <a:latin typeface="Times New Roman"/>
              </a:rPr>
              <a:t>F</a:t>
            </a:r>
            <a:r>
              <a:rPr b="0" lang="en-US" sz="5400" spc="-1" strike="noStrike" baseline="-25000">
                <a:solidFill>
                  <a:srgbClr val="ff8585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ff8585"/>
                </a:solidFill>
                <a:latin typeface="Times New Roman"/>
              </a:rPr>
              <a:t> = T sin</a:t>
            </a:r>
            <a:r>
              <a:rPr b="0" lang="en-US" sz="5400" spc="-1" strike="noStrike">
                <a:solidFill>
                  <a:srgbClr val="ff8585"/>
                </a:solidFill>
                <a:latin typeface="Symbol"/>
                <a:ea typeface="Symbol"/>
              </a:rPr>
              <a:t>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SE06_04"/>
          <p:cNvPicPr/>
          <p:nvPr/>
        </p:nvPicPr>
        <p:blipFill>
          <a:blip r:embed="rId1"/>
          <a:stretch/>
        </p:blipFill>
        <p:spPr>
          <a:xfrm>
            <a:off x="0" y="1371600"/>
            <a:ext cx="8126280" cy="6095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495680" y="17524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co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W</a:t>
            </a:r>
            <a:endParaRPr b="0" lang="en-US" sz="4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re T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W214_P_05"/>
          <p:cNvPicPr/>
          <p:nvPr/>
        </p:nvPicPr>
        <p:blipFill>
          <a:blip r:embed="rId1"/>
          <a:stretch/>
        </p:blipFill>
        <p:spPr>
          <a:xfrm>
            <a:off x="838080" y="1828800"/>
            <a:ext cx="792504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SEP06_58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7200" spc="-1" strike="noStrike" baseline="-25000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7200" spc="-1" strike="noStrike">
                <a:solidFill>
                  <a:srgbClr val="00cc99"/>
                </a:solidFill>
                <a:latin typeface="Times New Roman"/>
              </a:rPr>
              <a:t> = ma</a:t>
            </a:r>
            <a:r>
              <a:rPr b="0" lang="en-US" sz="7200" spc="-1" strike="noStrike" baseline="-25000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f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SEP06_51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2590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585"/>
                </a:solidFill>
                <a:latin typeface="Times New Roman"/>
              </a:rPr>
              <a:t>Helico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fig4-2"/>
          <p:cNvPicPr/>
          <p:nvPr/>
        </p:nvPicPr>
        <p:blipFill>
          <a:blip r:embed="rId1"/>
          <a:stretch/>
        </p:blipFill>
        <p:spPr>
          <a:xfrm>
            <a:off x="2666880" y="152280"/>
            <a:ext cx="631368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cycle Tri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Cir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W210_05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23623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n circular motion, </a:t>
            </a:r>
            <a:r>
              <a:rPr b="1" lang="en-US" sz="4400" spc="-1" strike="noStrike">
                <a:solidFill>
                  <a:srgbClr val="ff8585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 is toward the center and </a:t>
            </a:r>
            <a:r>
              <a:rPr b="1" lang="en-US" sz="4400" spc="-1" strike="noStrike">
                <a:solidFill>
                  <a:srgbClr val="ff8585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 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tang cut 1"/>
          <p:cNvPicPr/>
          <p:nvPr/>
        </p:nvPicPr>
        <p:blipFill>
          <a:blip r:embed="rId1"/>
          <a:stretch/>
        </p:blipFill>
        <p:spPr>
          <a:xfrm>
            <a:off x="2438280" y="0"/>
            <a:ext cx="6446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" y="46483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ubular"/>
              </a:rPr>
              <a:t>…</a:t>
            </a:r>
            <a:r>
              <a:rPr b="0" lang="en-US" sz="3600" spc="-1" strike="noStrike">
                <a:solidFill>
                  <a:srgbClr val="996633"/>
                </a:solidFill>
                <a:latin typeface="Tubular"/>
              </a:rPr>
              <a:t>along the tangent !</a:t>
            </a:r>
            <a:endParaRPr b="0" lang="en-US" sz="3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620120" y="2666880"/>
            <a:ext cx="685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505320" y="34290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905120" y="1371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585"/>
                </a:solidFill>
                <a:latin typeface="Tubular"/>
              </a:rPr>
              <a:t>---&gt;</a:t>
            </a:r>
            <a:endParaRPr b="0" lang="en-US" sz="1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990720" y="4038480"/>
            <a:ext cx="6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585"/>
                </a:solidFill>
                <a:latin typeface="Tubular"/>
              </a:rPr>
              <a:t>---&gt;</a:t>
            </a:r>
            <a:endParaRPr b="0" lang="en-US" sz="1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848720" y="4038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585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848720" y="4114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585"/>
                </a:solidFill>
                <a:latin typeface="Tubular"/>
              </a:rPr>
              <a:t>---&gt;</a:t>
            </a:r>
            <a:endParaRPr b="0" lang="en-US" sz="16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410080" y="4038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ubular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Tubular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ubular"/>
              </a:rPr>
              <a:t>    </a:t>
            </a:r>
            <a:r>
              <a:rPr b="0" lang="en-US" sz="4800" spc="-1" strike="noStrike">
                <a:solidFill>
                  <a:srgbClr val="ff0000"/>
                </a:solidFill>
                <a:latin typeface="Tubular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ubular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80010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ubular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g in a bu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H05_06"/>
          <p:cNvPicPr/>
          <p:nvPr/>
        </p:nvPicPr>
        <p:blipFill>
          <a:blip r:embed="rId1"/>
          <a:stretch/>
        </p:blipFill>
        <p:spPr>
          <a:xfrm>
            <a:off x="1143000" y="785880"/>
            <a:ext cx="632448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4190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ifuge R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051" descr="SEP06_63"/>
          <p:cNvPicPr/>
          <p:nvPr/>
        </p:nvPicPr>
        <p:blipFill>
          <a:blip r:embed="rId1"/>
          <a:stretch/>
        </p:blipFill>
        <p:spPr>
          <a:xfrm>
            <a:off x="1600200" y="990720"/>
            <a:ext cx="8126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204_05"/>
          <p:cNvPicPr/>
          <p:nvPr/>
        </p:nvPicPr>
        <p:blipFill>
          <a:blip r:embed="rId1"/>
          <a:stretch/>
        </p:blipFill>
        <p:spPr>
          <a:xfrm>
            <a:off x="1523880" y="0"/>
            <a:ext cx="7282080" cy="9677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6781680" y="60948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b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62360" y="9903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585"/>
                </a:solidFill>
                <a:latin typeface="Beanie"/>
              </a:rPr>
              <a:t>Rotating Space 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W209_05"/>
          <p:cNvPicPr/>
          <p:nvPr/>
        </p:nvPicPr>
        <p:blipFill>
          <a:blip r:embed="rId1"/>
          <a:stretch/>
        </p:blipFill>
        <p:spPr>
          <a:xfrm>
            <a:off x="0" y="457200"/>
            <a:ext cx="56196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1600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Rotation</a:t>
            </a:r>
            <a:br>
              <a:rPr sz="2400"/>
            </a:b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Creates </a:t>
            </a:r>
            <a:br>
              <a:rPr sz="2400"/>
            </a:b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a Feeling </a:t>
            </a:r>
            <a:br>
              <a:rPr sz="2400"/>
            </a:br>
            <a:r>
              <a:rPr b="0" lang="en-US" sz="2400" spc="-1" strike="noStrike">
                <a:solidFill>
                  <a:srgbClr val="ff8585"/>
                </a:solidFill>
                <a:latin typeface="Tubular"/>
              </a:rPr>
              <a:t>Like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W208_05"/>
          <p:cNvPicPr/>
          <p:nvPr/>
        </p:nvPicPr>
        <p:blipFill>
          <a:blip r:embed="rId1"/>
          <a:stretch/>
        </p:blipFill>
        <p:spPr>
          <a:xfrm>
            <a:off x="1752480" y="609480"/>
            <a:ext cx="6222960" cy="98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SEP06_61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1:24:37Z</dcterms:created>
  <dc:creator>Michael Francesco</dc:creator>
  <dc:description/>
  <dc:language>en-US</dc:language>
  <cp:lastModifiedBy>"%username%"</cp:lastModifiedBy>
  <cp:lastPrinted>2014-11-24T14:39:25Z</cp:lastPrinted>
  <dcterms:modified xsi:type="dcterms:W3CDTF">2014-11-24T14:39:39Z</dcterms:modified>
  <cp:revision>18</cp:revision>
  <dc:subject/>
  <dc:title>PowerPoint Presentation</dc:title>
</cp:coreProperties>
</file>